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A00-9E28-431D-9EAC-1EA45F29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E52-3170-499A-BC4C-5B0E948A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1E0-4391-4040-B6BE-EF5B88F7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6A84-E9FC-41A0-A23C-C5974818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58A-38AB-4445-B413-A2A0C94E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EA3-4BBA-4F53-A1D0-F856ABFC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528-4A0E-43C0-92B4-FE29D3B6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151-DA48-41C6-8754-ADFB3DBA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BE0-659D-4A9E-A7CF-AAFAAE5A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255-A22C-4058-8DBC-53E1BF35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427-BD88-42B3-915D-8F4903CD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22A-C254-43D7-96A5-D4564569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44CE-04E4-4B00-8011-D5226A5CE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hyperlink" Target="http://images.search.yahoo.com/images/view;_ylt=A0PDoX6PpqVO628ANHqJzbkF;_ylu=X3oDMTBlMTQ4cGxyBHNlYwNzcgRzbGsDaW1n?back=http%3A%2F%2Fimages.search.yahoo.com%2Fsearch%2Fimages%3Fp%3Dpools%26n%3D30%26ei%3Dutf-8%26b%3D1%26tab%3Dorganic&amp;w=650&amp;h=524&amp;imgurl=www.landscapeslighting.net%2Fwp-content%2Fuploads%2F2011%2F06%2FPools.jpg&amp;rurl=http%3A%2F%2Fwww.landscapeslighting.net%2Fpools&amp;size=155.5+KB&amp;name=Pools+%7C+Landscape+Lighting&amp;p=pools&amp;oid=f1b33c6aedc9d5f39547e840a7d103ca&amp;fr2=&amp;fr=&amp;tt=Pools+%7C+Landscape+Lighting&amp;b=0&amp;ni=28&amp;no=0&amp;tab=organic&amp;sigr=117bnockq&amp;sigb=12inqrc6h&amp;sigi=11vtenbr2&amp;.crumb=rf/MrpZkk5t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lo 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nvierno y el Ver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 Rouss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A" sz="28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Image Detail"/>
          <p:cNvPicPr/>
          <p:nvPr/>
        </p:nvPicPr>
        <p:blipFill>
          <a:blip r:embed="rId1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133200"/>
            <a:ext cx="4267440" cy="4286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4876920"/>
            <a:ext cx="35049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A" sz="2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000000"/>
                </a:solidFill>
                <a:latin typeface="Arial"/>
              </a:rPr>
              <a:t>¿Qué tiempo h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44197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4648320"/>
            <a:ext cx="3429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000000"/>
                </a:solidFill>
                <a:latin typeface="Arial"/>
              </a:rPr>
              <a:t>¿Hay olas grandes o pequeñ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Dónde pasaron el fin de semana las muchacha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é hicieron? (activid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é llevaron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Nombra 3 cosas sobre la play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Arial"/>
              </a:rPr>
              <a:t>¿Qué dos actividades hicier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Arial"/>
              </a:rPr>
              <a:t>¿Dónde nadar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32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" y="266652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Arial"/>
              </a:rPr>
              <a:t>¿Qué practicó el muchac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Arial"/>
              </a:rPr>
              <a:t>¿Qué necesitó para el deporte acuátic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03884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353040" cy="236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15000" y="255096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25509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é practicó la ardil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Image Detail"/>
          <p:cNvPicPr/>
          <p:nvPr/>
        </p:nvPicPr>
        <p:blipFill>
          <a:blip r:embed="rId3"/>
          <a:stretch/>
        </p:blipFill>
        <p:spPr>
          <a:xfrm>
            <a:off x="5334120" y="3048120"/>
            <a:ext cx="3124080" cy="2590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15000" y="5791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000000"/>
                </a:solidFill>
                <a:latin typeface="Arial"/>
              </a:rPr>
              <a:t>¿Qué practic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523520"/>
            <a:ext cx="4038480" cy="2186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Image Detail"/>
          <p:cNvPicPr/>
          <p:nvPr/>
        </p:nvPicPr>
        <p:blipFill>
          <a:blip r:embed="rId3"/>
          <a:stretch/>
        </p:blipFill>
        <p:spPr>
          <a:xfrm>
            <a:off x="533520" y="3886200"/>
            <a:ext cx="388620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54864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000000"/>
                </a:solidFill>
                <a:latin typeface="Arial"/>
              </a:rPr>
              <a:t>¿Dónde nad</a:t>
            </a:r>
            <a:r>
              <a:rPr b="1" lang="es-PA" sz="2000" spc="-1" strike="noStrike">
                <a:solidFill>
                  <a:srgbClr val="000000"/>
                </a:solidFill>
                <a:latin typeface="Arial"/>
                <a:ea typeface="Arial"/>
              </a:rPr>
              <a:t>ó la muchacha</a:t>
            </a:r>
            <a:r>
              <a:rPr b="1" lang="es-PA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685800"/>
            <a:ext cx="3962520" cy="265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19320" y="331308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PA" sz="2000" spc="-1" strike="noStrike">
                <a:solidFill>
                  <a:srgbClr val="000000"/>
                </a:solidFill>
                <a:latin typeface="Arial"/>
              </a:rPr>
              <a:t>¿Qué e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5029200" y="45720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76920" y="335268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é deporte jug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Dónde jug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Jugaron al aire libre o en una cancha cubier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Jugaron singles o dob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ién golpeó la pelo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Por dónde pasó la pelo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3962520" cy="281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95280" y="349740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98560" y="3160800"/>
            <a:ext cx="2759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00080"/>
            <a:ext cx="3657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é baj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Nombra cuatro cosas que un esquiador necesita para esquia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3886200" cy="2895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24280" y="30481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é tomaron para subir la monta</a:t>
            </a:r>
            <a:r>
              <a:rPr b="0" lang="es-PA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38098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Qué tiempo hace en el invier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000000"/>
                </a:solidFill>
                <a:latin typeface="Arial"/>
              </a:rPr>
              <a:t>¿Dónde  compraron los esquiadores los boleto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6:17:01Z</dcterms:created>
  <dc:creator>erousseau</dc:creator>
  <dc:description/>
  <dc:language>en-US</dc:language>
  <cp:lastModifiedBy>erousseau</cp:lastModifiedBy>
  <dcterms:modified xsi:type="dcterms:W3CDTF">2011-10-24T18:45:01Z</dcterms:modified>
  <cp:revision>7</cp:revision>
  <dc:subject/>
  <dc:title>Capítulo 9: El Invierno y el Verano</dc:title>
</cp:coreProperties>
</file>